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758-0279-48D4-82D5-9BD04817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8CB-9E21-46EF-846C-E7F3F05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FF7-CAE4-4CC7-8EA1-BB1B3BAD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CEF-37BF-40F7-B126-B9F6EA97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194-CA04-49A4-8F1D-8ED97E7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9CE-90B4-4D9E-9E62-0484E267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F11-04AB-455F-8790-DDEDFA47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231D-5BF4-4D94-99A2-3738FCE8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D6FC-B357-4501-AD77-9C5598E4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E58-A167-46FE-9E8B-3AE402C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F36-1916-46BF-A3DC-877F336A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144-8D76-494F-A63D-F233A6C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461-50BC-4812-AE4B-445452070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R, WE WOULD SEE JESU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-Life of Christ-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arter 9, Lesson 1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t. 5-7; Luke 6:17-49;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ges 47-5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atitud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:3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oor in spirit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that mourn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meek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which do hunger and thirst after righteousness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merciful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ure in heart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 peacemakers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atitud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:3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they which are persecuted for righteousness sake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ed are ye, when men shall revile you, and persecute you and shall say all manner of evil against you falsely, for my sake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joice and be exceedingly glad for--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RM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N THE MOUNT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-7; Luke 6:17-4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rded in Matthew and Luk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to the place where event took place, there is no contradi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ding a level spot on the mountain, Jesus began to te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“beatitudes” are a famous part of the serm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atitude means ____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RM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N THE MOUNT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tt. 5-7; Luke 6:17-49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beatitudes describes the character each disciple of the Lord should ha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secutions will come—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istians should not be turned away by persecutions but rejo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ok for the heavenly rewar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llowers of Go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u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e different from the worl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LESSONS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078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rist came not to destroy but to fulfill the la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rder begins in the he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lust after a woman is to commit adultery in one’s he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rship should be offered to G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n’t do charitable deeds to be seen of me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969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LESSONS OF CHRIS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 are treasures on earth and treasures in heave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one can serve two mast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n’t worry about life or what you’ll eat or drin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dge righteously not hypocritical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ve your enemies, be mercifu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 obey Christ is like unto building one’s house on a roc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5:29:50Z</dcterms:created>
  <dc:creator>billy lauderdale</dc:creator>
  <dc:description/>
  <dc:language>en-US</dc:language>
  <cp:lastModifiedBy>Frank D Vines</cp:lastModifiedBy>
  <dcterms:modified xsi:type="dcterms:W3CDTF">2006-05-14T12:48:59Z</dcterms:modified>
  <cp:revision>12</cp:revision>
  <dc:subject/>
  <dc:title>SIR, WE WOULD SEE JESUS -Life of Christ-</dc:title>
</cp:coreProperties>
</file>